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3A4B-549D-448C-A31E-089DEC1E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AFB-EEB3-4ED0-9C93-17E6F40C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C64-0BF5-4F42-AC63-E6803269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9F7-5A8E-4B91-998B-45A84BDC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B82B-3628-4C4E-B8FD-4C635FB9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0260-929F-4DFB-BD18-0707A6A9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B083-5EBB-4BBF-8F4A-7C0A9495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C241-1AE2-4199-ADD2-E2F7CD06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16E5-4DE1-47F6-B5C3-00D92500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3D7B-82F7-4915-A10C-FB8C98F6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31CA-3293-4752-A939-43CA8984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1EB-FDFB-4BCE-8949-8AEE744D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740C-962A-4FE1-9D72-18EFAECD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A010-04C9-4468-AE33-4DEB6F68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4097-6687-4948-B18B-26B351B3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28E9-B4A9-4F93-B4EC-4EB3C1F3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0A15-6D8C-4A76-ACDF-5197C6B0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C86-912D-45F1-97A0-E5505B07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678-43C8-4D70-9980-8A214D3C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EF9D-7EE2-46C2-B464-1B0C681C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9C5-54F1-4971-AFCA-135AAE0E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E6F-8575-425F-9F58-79A27EC4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E61-2054-47D8-B860-B925DF80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DE7-AFCF-4743-B94B-4F40DF5D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69CB-7144-48BA-9BDB-E86380C5BC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DA67-75CD-4355-A90C-EA49EB70C36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 rot="21124200">
            <a:off x="2916360" y="836280"/>
            <a:ext cx="4762440" cy="50864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349280" y="4797360"/>
            <a:ext cx="551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N</a:t>
            </a: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 AFRIC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54936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 GIOCHI e la SCUO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87640" y="650880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Le foto sono state scattate in Ango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95280" y="260280"/>
            <a:ext cx="71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he comodi che saranno questi sedili....(leggi panche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95280" y="260280"/>
            <a:ext cx="7199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Qui si gioca a fare le cuoc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395280" y="260280"/>
            <a:ext cx="7199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Erano così le vostre cucine giocattol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50920" y="333360"/>
            <a:ext cx="3529080" cy="56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Il più famoso dei giochi in Africa è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far rotolare un cerchione con un bastone.. sono CAMPIONI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24000" y="260280"/>
            <a:ext cx="8280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Non avendo parchi giochi … ci si aggiusta con ciò che si trova per stra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95280" y="260280"/>
            <a:ext cx="8497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.. Il fazzoletto è proprio internaziona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24000" y="5746680"/>
            <a:ext cx="842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.. Per la palla ci si accontenta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24000" y="5950080"/>
            <a:ext cx="741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La porta da calcio è molto sempl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84360" y="3860640"/>
            <a:ext cx="7199280" cy="229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alla lamiere dei barattoli, i ragazzi Africani costruiscono le loro macchini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ei veri gioiel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47640" y="1484280"/>
            <a:ext cx="5616720" cy="2232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468360" y="260280"/>
            <a:ext cx="8207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apete qual è la parte più diffici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5303880"/>
            <a:ext cx="8207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.. costruire il filo, perché lo ottengono legando tanti e tanti pezzetti che trovano qua e l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76720" y="2565360"/>
            <a:ext cx="503280" cy="43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596360" y="4653000"/>
            <a:ext cx="502920" cy="43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3141720"/>
            <a:ext cx="503280" cy="43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763640" y="2997360"/>
            <a:ext cx="1584360" cy="23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763640" y="3499920"/>
            <a:ext cx="287964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835280" y="4797360"/>
            <a:ext cx="568944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546200" y="26028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tutti piace la biciclett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24000" y="5373720"/>
            <a:ext cx="8207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a qualcuno glielo ha detto che il canestro dovrebbe essere più al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 rot="213000">
            <a:off x="1619280" y="1341000"/>
            <a:ext cx="6653160" cy="49975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 rot="21382200">
            <a:off x="1546200" y="1413000"/>
            <a:ext cx="6697800" cy="496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8360" y="115920"/>
            <a:ext cx="820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Comic Sans MS"/>
              </a:rPr>
              <a:t>Ora cambiamo argoment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Comic Sans MS"/>
              </a:rPr>
              <a:t>Parliamo di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36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3635280" y="5229360"/>
            <a:ext cx="5042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Questa è la scuola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84360" y="476280"/>
            <a:ext cx="5759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e questi sono i banch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250920" y="260280"/>
            <a:ext cx="8459640" cy="1482840"/>
          </a:xfrm>
          <a:prstGeom prst="rect">
            <a:avLst/>
          </a:prstGeom>
          <a:solidFill>
            <a:srgbClr val="eaeaea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e si osserva bene, sarà facile notare l’ordine e la puliz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nonostante la povertà del luo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468360" y="476280"/>
            <a:ext cx="6624720" cy="581400"/>
          </a:xfrm>
          <a:prstGeom prst="rect">
            <a:avLst/>
          </a:prstGeom>
          <a:solidFill>
            <a:srgbClr val="eaeaea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ltri esempi di scu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468360" y="476280"/>
            <a:ext cx="6624720" cy="581400"/>
          </a:xfrm>
          <a:prstGeom prst="rect">
            <a:avLst/>
          </a:prstGeom>
          <a:solidFill>
            <a:srgbClr val="eaeaea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ltri esempi di scu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68360" y="476280"/>
            <a:ext cx="6624720" cy="581400"/>
          </a:xfrm>
          <a:prstGeom prst="rect">
            <a:avLst/>
          </a:prstGeom>
          <a:solidFill>
            <a:srgbClr val="eaeaea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ltri esempi di scu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468360" y="476280"/>
            <a:ext cx="6624720" cy="581400"/>
          </a:xfrm>
          <a:prstGeom prst="rect">
            <a:avLst/>
          </a:prstGeom>
          <a:solidFill>
            <a:srgbClr val="eaeaea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ltri esempi di scu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468360" y="476280"/>
            <a:ext cx="6624720" cy="581400"/>
          </a:xfrm>
          <a:prstGeom prst="rect">
            <a:avLst/>
          </a:prstGeom>
          <a:solidFill>
            <a:srgbClr val="eaeaea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ltri esempi di scu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979640" y="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in Africa bisogna provare a costruirs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468360" y="476280"/>
            <a:ext cx="6624720" cy="581400"/>
          </a:xfrm>
          <a:prstGeom prst="rect">
            <a:avLst/>
          </a:prstGeom>
          <a:solidFill>
            <a:srgbClr val="eaeaea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ltri esempi di scu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468360" y="476280"/>
            <a:ext cx="7775640" cy="1068840"/>
          </a:xfrm>
          <a:prstGeom prst="rect">
            <a:avLst/>
          </a:prstGeom>
          <a:solidFill>
            <a:srgbClr val="eaeaea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er andare a scuola non passano i bus, e non c’è la mac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68360" y="1930320"/>
            <a:ext cx="7775640" cy="1068840"/>
          </a:xfrm>
          <a:prstGeom prst="rect">
            <a:avLst/>
          </a:prstGeom>
          <a:solidFill>
            <a:srgbClr val="eaeaea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gnuno porta il proprio banco la propria sed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708360" y="4797360"/>
            <a:ext cx="1152720" cy="1081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380360" y="4005360"/>
            <a:ext cx="1152360" cy="1081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92720" y="4149720"/>
            <a:ext cx="1152360" cy="1081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843280" y="3141720"/>
            <a:ext cx="1081080" cy="172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43280" y="3141720"/>
            <a:ext cx="252072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43280" y="3141720"/>
            <a:ext cx="453708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96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59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5580000" y="620640"/>
            <a:ext cx="35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Nulla ferma il desiderio di impar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5292720" y="836640"/>
            <a:ext cx="3672000" cy="4014360"/>
          </a:xfrm>
          <a:prstGeom prst="rect">
            <a:avLst/>
          </a:prstGeom>
          <a:solidFill>
            <a:srgbClr val="eaeaea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n Africa c’è davvero molta voglia di impar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La scuola è bella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68360" y="476280"/>
            <a:ext cx="6624720" cy="825120"/>
          </a:xfrm>
          <a:prstGeom prst="rect">
            <a:avLst/>
          </a:prstGeom>
          <a:solidFill>
            <a:srgbClr val="eaeaea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I volti sorrident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 rot="20133000">
            <a:off x="1258560" y="25992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519280" y="5157720"/>
            <a:ext cx="6624720" cy="825120"/>
          </a:xfrm>
          <a:prstGeom prst="rect">
            <a:avLst/>
          </a:prstGeom>
          <a:solidFill>
            <a:srgbClr val="eaeaea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I volti sorrident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468360" y="260280"/>
            <a:ext cx="6624720" cy="825120"/>
          </a:xfrm>
          <a:prstGeom prst="rect">
            <a:avLst/>
          </a:prstGeom>
          <a:solidFill>
            <a:srgbClr val="eaeaea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I volti sorrident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68360" y="476280"/>
            <a:ext cx="7775640" cy="916920"/>
          </a:xfrm>
          <a:prstGeom prst="rect">
            <a:avLst/>
          </a:prstGeom>
          <a:solidFill>
            <a:srgbClr val="eaeaea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La voglia di impara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468360" y="333360"/>
            <a:ext cx="7775640" cy="916920"/>
          </a:xfrm>
          <a:prstGeom prst="rect">
            <a:avLst/>
          </a:prstGeom>
          <a:solidFill>
            <a:srgbClr val="eaeaea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La povertà dei mezz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468360" y="476280"/>
            <a:ext cx="7775640" cy="916920"/>
          </a:xfrm>
          <a:prstGeom prst="rect">
            <a:avLst/>
          </a:prstGeom>
          <a:solidFill>
            <a:srgbClr val="eaeaea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La voglia di impara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203640" y="3860640"/>
            <a:ext cx="5473800" cy="106884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anche il pallone da calcio va costruito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5445000"/>
            <a:ext cx="1008000" cy="107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9704000">
            <a:off x="1763640" y="4724280"/>
            <a:ext cx="1224000" cy="792360"/>
          </a:xfrm>
          <a:prstGeom prst="leftArrow">
            <a:avLst>
              <a:gd name="adj1" fmla="val 50000"/>
              <a:gd name="adj2" fmla="val 38619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5219640" y="2349360"/>
            <a:ext cx="36734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Anche le mamme, vanno a scuola 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e hanno una grinta invidiabi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19986600">
            <a:off x="4932000" y="836280"/>
            <a:ext cx="1800360" cy="1008000"/>
          </a:xfrm>
          <a:prstGeom prst="leftArrow">
            <a:avLst>
              <a:gd name="adj1" fmla="val 50000"/>
              <a:gd name="adj2" fmla="val 44652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4716360" y="18900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Qui i banchi non ci sono nemmen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16360" y="1773360"/>
            <a:ext cx="442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volte, per mancanza di quaderni, si cancella quello che si è scritto …. e si ricominc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43280" y="5157720"/>
            <a:ext cx="44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gni volta che butti un foglio … pensaci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62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12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3892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0" y="2492280"/>
            <a:ext cx="37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sservate la “culla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1452600">
            <a:off x="1402920" y="4149360"/>
            <a:ext cx="3095640" cy="576360"/>
          </a:xfrm>
          <a:prstGeom prst="rightArrow">
            <a:avLst>
              <a:gd name="adj1" fmla="val 50000"/>
              <a:gd name="adj2" fmla="val 134275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211640" y="4535640"/>
            <a:ext cx="4753080" cy="2565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 rot="20843400">
            <a:off x="1692000" y="-242640"/>
            <a:ext cx="5325840" cy="71010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2519280" y="620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L’amore però è internazion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63640" y="6093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e foto sono state scattate in Ang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95280" y="260280"/>
            <a:ext cx="71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i="1" lang="it-IT" sz="3600" spc="-1" strike="noStrike">
                <a:solidFill>
                  <a:srgbClr val="000000"/>
                </a:solidFill>
                <a:latin typeface="Comic Sans MS"/>
              </a:rPr>
              <a:t>questi occhiali da sole sono sicuramente uni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95280" y="260280"/>
            <a:ext cx="71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Non parliamo poi di questo rivoluzionario IP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95280" y="260280"/>
            <a:ext cx="719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a il pezzo forte è lo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scoo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148360" y="333360"/>
            <a:ext cx="39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ochi di noi, (che abbiamo lo scooter vero) saremmo capaci di fare una opera di questo gen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95280" y="260280"/>
            <a:ext cx="71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Comic Sans MS"/>
              </a:rPr>
              <a:t>Andare in macchina è una vera avventura…non ci vanno mai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2:12:33Z</dcterms:created>
  <dc:creator>PriorSte</dc:creator>
  <dc:description/>
  <dc:language>en-US</dc:language>
  <cp:lastModifiedBy>PriorSte</cp:lastModifiedBy>
  <dcterms:modified xsi:type="dcterms:W3CDTF">2010-07-29T11:20:20Z</dcterms:modified>
  <cp:revision>13</cp:revision>
  <dc:subject/>
  <dc:title>Diapositiva 1</dc:title>
</cp:coreProperties>
</file>