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drumroll.wav" ContentType="audio/x-wav"/>
  <Override PartName="/ppt/media/glass.wav" ContentType="audio/x-wav"/>
  <Override PartName="/ppt/media/typ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3C6-412F-4FE7-B7E0-AEF94879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4A0-F807-486B-B7CB-60BA3EF6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E6F-E413-4821-98B3-B48C65A0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B49-D5BB-461B-A462-15F59266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008-0C21-462B-84C6-91A175A5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80E-0132-43AB-BB8B-8F41F775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36D-3349-403F-88A6-08A5C83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2AC-731A-432B-8176-5DDE4965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844-F781-4F68-AD22-FA90078D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042-7215-4471-970F-0BB670E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051-7DD6-4529-868F-4952AB3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B1D-0E28-4DA4-A7AB-77DF99E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2EF-2041-4BD4-9F67-73720F0C33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267080" y="3885840"/>
            <a:ext cx="4191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Segni efficaci della grazia di Dio, istituiti da Gesù ,                 per santificar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83808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  SACRAMENT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5800" y="2666880"/>
            <a:ext cx="2905200" cy="3429000"/>
          </a:xfrm>
          <a:prstGeom prst="rect">
            <a:avLst/>
          </a:prstGeom>
          <a:ln w="12600">
            <a:solidFill>
              <a:srgbClr val="ff0066"/>
            </a:solidFill>
            <a:miter/>
          </a:ln>
        </p:spPr>
      </p:pic>
    </p:spTree>
  </p:cSld>
  <p:transition spd="med" advTm="35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segni efficaci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3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I sacramenti operano “</a:t>
            </a:r>
            <a:r>
              <a:rPr b="1" i="1" lang="en-US" sz="3200" spc="-1" strike="noStrike">
                <a:solidFill>
                  <a:srgbClr val="990099"/>
                </a:solidFill>
                <a:latin typeface="Tahoma"/>
              </a:rPr>
              <a:t>ex opere operato</a:t>
            </a: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”, cioè  per il fatto stesso che vengono amministrati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50532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99"/>
                </a:solidFill>
                <a:latin typeface="Tahoma"/>
              </a:rPr>
              <a:t>I doni di Dio portano sempre in sé qualcosa di buono: ogni sacramento è un vero regalo da parte di Dio, che di certo PUO’ agire dentro di n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della grazia di Dio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La Grazia di Dio è la sua AMICIZIA. Quando siamo “in grazia di Dio” significa che non abbiamo peccati che ci appesantiscono e impediscono di </a:t>
            </a:r>
            <a:r>
              <a:rPr b="1" i="1" lang="en-US" sz="3200" spc="-1" strike="noStrike">
                <a:solidFill>
                  <a:srgbClr val="336600"/>
                </a:solidFill>
                <a:latin typeface="Tahoma"/>
              </a:rPr>
              <a:t>correre e giocare</a:t>
            </a: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 con 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00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Ogni Sacramento serve a fare di Dio il nostro “più grande ami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”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istituiti da Gesù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l celebrare i Sacramenti (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AMMINISTRAR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, la Chiesa ubbidisce a parole precise di Gesù, che possiamo trovare nel Vang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733920"/>
            <a:ext cx="725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er di più, quando la Chiesa celebra, è Cristo che celebra, per mezzo dello Spirito Santo, che dà significato e valore ai gesti e alle pa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per santificarci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Perché ci donano l’amicizia con Dio, hanno il potere di “</a:t>
            </a:r>
            <a:r>
              <a:rPr b="1" i="1" lang="en-US" sz="3200" spc="-1" strike="noStrike">
                <a:solidFill>
                  <a:srgbClr val="993300"/>
                </a:solidFill>
                <a:latin typeface="Tahoma"/>
              </a:rPr>
              <a:t>santificarci</a:t>
            </a: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”. Se pensiamo ai Santi, essi non sono altro che AMICI DI 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0384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Perciò, nel ricevere qualsiasi Sacramento, è necessario farlo con FEDE, CONSAPEVOLI e PRO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In ogni Sacramento c’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Un </a:t>
            </a: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MINISTRO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, che nella persona di Gesù compie il Rito, e vuole fare le cose secondo quanto insegna la Chiesa (“</a:t>
            </a: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in comunione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” con es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733920"/>
            <a:ext cx="769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Una </a:t>
            </a: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FORMA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, cioè la formula, l’insieme di parole, che il ministro pronu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0292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Una </a:t>
            </a: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MATERIA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, il segno </a:t>
            </a: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sensibile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 (che si vede o si toc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09:28:50Z</dcterms:created>
  <dc:creator>Paolo Ravaglia</dc:creator>
  <dc:description/>
  <dc:language>en-US</dc:language>
  <cp:lastModifiedBy>PriorSte</cp:lastModifiedBy>
  <dcterms:modified xsi:type="dcterms:W3CDTF">2010-05-05T10:48:13Z</dcterms:modified>
  <cp:revision>6</cp:revision>
  <dc:subject/>
  <dc:title>Presentazione di PowerPoint</dc:title>
</cp:coreProperties>
</file>