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B45-9F07-46C6-BE65-19F3412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44B-7AA5-42B3-B29D-0A7834DD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85A-1EBC-47A9-BA8E-AD94A59F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3EF-4421-4C2B-966A-D87A2C23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227-E1D6-4380-92AE-1F142C1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861-0505-4FC6-8B27-51736BE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86E-4EA1-4791-9C16-EF680737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573-D275-4767-8D1F-20C6DD2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06-1421-453E-8A3E-40C8B918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58C-2FC1-423B-9F1A-715018F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4DA-5699-4731-853A-69F3B96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DDB-FC6F-4784-8050-BB8CC4F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63C-1172-4C99-880B-F1ABCC8DFF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3300"/>
                </a:solidFill>
                <a:latin typeface="Tahoma"/>
              </a:rPr>
              <a:t>SACRAMENTI DELLA GUARIGIONE</a:t>
            </a:r>
            <a:br>
              <a:rPr sz="3100"/>
            </a:b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Riconciliazione e Unzione dei Ma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In essi, la Chiesa rende presente la misericordia e la bontà di Dio per no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3526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Egli ama le sue creature ed è vicino a quanti soffrono, pronto ad aiu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57200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Si prende cura, come il Buon Samaritano, delle ferite dell’an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(i peccati) e le sofferenze del cor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440" y="23619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Gesù, prima di salire al cielo disse agli Apostoli: </a:t>
            </a:r>
            <a:r>
              <a:rPr b="1" i="1" lang="it-IT" sz="2800" spc="-1" strike="noStrike">
                <a:solidFill>
                  <a:srgbClr val="ff0000"/>
                </a:solidFill>
                <a:latin typeface="Tahoma"/>
              </a:rPr>
              <a:t>“Pace a voi! A chi rimetterete i peccati saranno rimessi e a chi non li rimetterete, resteranno non rimessi”.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i="1" lang="it-IT" sz="1800" spc="-1" strike="noStrike">
                <a:solidFill>
                  <a:srgbClr val="ff0000"/>
                </a:solidFill>
                <a:latin typeface="Tahoma"/>
              </a:rPr>
              <a:t>(Gv 20,21.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68580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A RICONCILIAZIONE</a:t>
            </a:r>
            <a:endParaRPr b="0" i="1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0528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347" descr=""/>
          <p:cNvPicPr/>
          <p:nvPr/>
        </p:nvPicPr>
        <p:blipFill>
          <a:blip r:embed="rId1"/>
          <a:srcRect l="23952" t="0" r="0" b="0"/>
          <a:stretch/>
        </p:blipFill>
        <p:spPr>
          <a:xfrm>
            <a:off x="747720" y="2286000"/>
            <a:ext cx="2840040" cy="373392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</p:spTree>
  </p:cSld>
  <p:transition spd="med" advTm="35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00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ahoma"/>
              </a:rPr>
              <a:t>Ogni sera è cosa molto buona che ciascuno di noi faccia un bell’ESAME DI COSCIENZA. Proprio come fa il dottore, “facciamo una visita” al nostro rapporto con Dio, e vediamo cosa non 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290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6600"/>
                </a:solidFill>
                <a:uFillTx/>
                <a:latin typeface="Tahoma"/>
              </a:rPr>
              <a:t>Appena</a:t>
            </a:r>
            <a:r>
              <a:rPr b="1" lang="it-IT" sz="2800" spc="-1" strike="noStrike">
                <a:solidFill>
                  <a:srgbClr val="336600"/>
                </a:solidFill>
                <a:latin typeface="Tahoma"/>
              </a:rPr>
              <a:t> ci accorgiamo che le cose non vanno troppo bene, e che la nostra anima </a:t>
            </a:r>
            <a:r>
              <a:rPr b="1" i="1" lang="it-IT" sz="2800" spc="-1" strike="noStrike">
                <a:solidFill>
                  <a:srgbClr val="336600"/>
                </a:solidFill>
                <a:latin typeface="Tahoma"/>
              </a:rPr>
              <a:t>è un po’ sporchina</a:t>
            </a:r>
            <a:r>
              <a:rPr b="1" lang="it-IT" sz="2800" spc="-1" strike="noStrike">
                <a:solidFill>
                  <a:srgbClr val="336600"/>
                </a:solidFill>
                <a:latin typeface="Tahoma"/>
              </a:rPr>
              <a:t>, … corriamo dal sacerdote, che è il ministro della Riconciliazione, per una bella CONFESS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00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Durante la Confessione, </a:t>
            </a: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diciamo i nostri peccati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 (il segno concreto): è come un buttarli fuori da noi, un metterli nelle mani di 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124080"/>
            <a:ext cx="792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ahoma"/>
              </a:rPr>
              <a:t>Poi il sacerdote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ci parla della bontà di Dio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</a:rPr>
              <a:t>, e nello stesso tempo ci aiuta a capire </a:t>
            </a:r>
            <a:r>
              <a:rPr b="1" lang="en-US" sz="2800" spc="-1" strike="noStrike">
                <a:solidFill>
                  <a:srgbClr val="336600"/>
                </a:solidFill>
                <a:latin typeface="Tahoma"/>
              </a:rPr>
              <a:t>la gravità del nostro errore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i invita ad una preghiera (la PENITENZA), che si chiama SODDISFAZIONE: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appena abbiamo buttato fuori le cose cattive, vogliamo riempirci di bene.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Il male non deve trovare in noi posto liber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00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ahoma"/>
              </a:rPr>
              <a:t>Dopo un ATTO DI PENTI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993366"/>
                </a:solidFill>
                <a:latin typeface="Tahoma"/>
              </a:rPr>
              <a:t>Mio Dio mi pento…</a:t>
            </a:r>
            <a:r>
              <a:rPr b="1" lang="en-US" sz="2800" spc="-1" strike="noStrike">
                <a:solidFill>
                  <a:srgbClr val="993366"/>
                </a:solidFill>
                <a:latin typeface="Tahoma"/>
              </a:rPr>
              <a:t> è il più comune),</a:t>
            </a:r>
            <a:r>
              <a:rPr b="1" lang="en-US" sz="3200" spc="-1" strike="noStrike">
                <a:solidFill>
                  <a:srgbClr val="993366"/>
                </a:solidFill>
                <a:latin typeface="Tahoma"/>
              </a:rPr>
              <a:t> il sacerdote pronuncia la forma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“Io ti assolvo, nel nome del Padre e del Figlio e dello Spirito Santo. Amen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419720"/>
            <a:ext cx="761976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Dio ti ha perdonato: </a:t>
            </a:r>
            <a:r>
              <a:rPr b="1" lang="en-US" sz="2800" spc="-1" strike="noStrike">
                <a:solidFill>
                  <a:srgbClr val="ff9966"/>
                </a:solidFill>
                <a:latin typeface="Tahoma"/>
              </a:rPr>
              <a:t>un momento di RINGRAZIAMENTO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 non ci sta male! E’ come un applauso a Dio per la bella “</a:t>
            </a:r>
            <a:r>
              <a:rPr b="0" i="1" lang="en-US" sz="2800" spc="-1" strike="noStrike">
                <a:solidFill>
                  <a:srgbClr val="ff9966"/>
                </a:solidFill>
                <a:latin typeface="Tahoma"/>
              </a:rPr>
              <a:t>festa del perdono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” che ha fatto per 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8620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Tahoma"/>
              </a:rPr>
              <a:t>Dopo il mandato di Gesù, i discepoli,              </a:t>
            </a:r>
            <a:r>
              <a:rPr b="1" i="1" lang="en-US" sz="2800" spc="-1" strike="noStrike">
                <a:solidFill>
                  <a:srgbClr val="a50021"/>
                </a:solidFill>
                <a:latin typeface="Tahoma"/>
              </a:rPr>
              <a:t>“partiti, predicavano che la gente si convertisse, scacciavano demoni, ungevano di olio molti infermi e li guarivano”</a:t>
            </a:r>
            <a:r>
              <a:rPr b="0" i="1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(Mc 6,12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685800"/>
            <a:ext cx="78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777777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'UNZIONE DEGLI INFERMI</a:t>
            </a:r>
            <a:endParaRPr b="0" i="1" lang="en-US" sz="2400" spc="1" strike="noStrike">
              <a:ln w="12600">
                <a:solidFill>
                  <a:srgbClr val="c0c0c0"/>
                </a:solidFill>
                <a:miter/>
              </a:ln>
              <a:solidFill>
                <a:srgbClr val="777777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955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204" descr=""/>
          <p:cNvPicPr/>
          <p:nvPr/>
        </p:nvPicPr>
        <p:blipFill>
          <a:blip r:embed="rId1"/>
          <a:srcRect l="10770" t="0" r="21540" b="0"/>
          <a:stretch/>
        </p:blipFill>
        <p:spPr>
          <a:xfrm>
            <a:off x="609480" y="2133720"/>
            <a:ext cx="3008520" cy="39621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med" advTm="35000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a più antica testimonianza di questo sacramento si ha nella lettera dell’apostolo Giacom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5,14-15)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i è malato, chiami a sé i presbiteri della Chiesa e preghino su di lui, dopo averlo unto con olio, nel nome del Signore. E la preghiera fatta con fede salverà il malato: il Signore lo rialzerà e se ha commesso peccati, gli saranno perdona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ggi come allora, i sacerdoti (i ministri dell’Unzione degli Infermi) visitano le persone ammalate, pregano con loro e ungono la fronte e le mani con </a:t>
            </a:r>
            <a:r>
              <a:rPr b="1" lang="en-US" sz="3200" spc="-1" strike="noStrike">
                <a:solidFill>
                  <a:srgbClr val="ff3399"/>
                </a:solidFill>
                <a:latin typeface="Tahoma"/>
              </a:rPr>
              <a:t>l’OLIO DEGLI INFERMI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, dicendo: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ahoma"/>
              </a:rPr>
              <a:t>”Per questa santa unzione e la sua piissima misericordia, ti aiuti il Signore con la grazia dello Spirito Santo. E liberandoti dai peccati ti salvi, e nella sua bontà ti sollevi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5000">
    <p:pull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09:28:50Z</dcterms:created>
  <dc:creator>Paolo Ravaglia</dc:creator>
  <dc:description/>
  <dc:language>en-US</dc:language>
  <cp:lastModifiedBy>PriorSte</cp:lastModifiedBy>
  <dcterms:modified xsi:type="dcterms:W3CDTF">2009-02-25T12:26:50Z</dcterms:modified>
  <cp:revision>5</cp:revision>
  <dc:subject/>
  <dc:title>Presentazione di PowerPoint</dc:title>
</cp:coreProperties>
</file>