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813-75A8-4F4A-A17C-72E3D1BD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1B15-5A3B-4DBD-8F25-873400B1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E0B-AF72-4C71-99CC-244724A9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528-8DE3-440B-A5B2-CE76FF39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5BB3-0D4C-43B7-8E89-5A751F62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01E4-B136-4C67-8360-AFD27807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C5A6-8A2D-4E8C-A1A5-C42419E5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557F-C90A-40D0-90D3-9BB564C6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8FBD-9680-4163-91F4-4A199799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8AF0-FAD2-4550-9C43-6413F662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E2F2-C614-46B6-AA91-6169B782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6B4-92B5-48A6-8938-2D0BF246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6952-6D4B-4683-A765-37337FFF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DD03-6FAA-44FC-A714-2F392EDD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8C39-79CE-4530-9940-0603FA99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DE86-591F-4200-ACA5-6AB160A3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5A87-D6A7-4C6E-84EB-B61FE56A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30810-CFAD-49AE-A3F9-445E4AF2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F05B9-5F98-4616-88E6-48B01BB0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F3768-C6C9-4284-A183-F563BF85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61C82-FAA9-45E0-BB30-6039B380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7BAD4-B14C-4AC7-9C55-08A22D18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732-ECBD-4DF5-82FA-28B6DE0D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2F0DA-DB0C-44F8-B769-D165C29F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FA7C5-117E-4110-B6F4-F434AB3B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6F23E-7CC4-4690-93DA-8927476C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D1F7C-DC82-49DB-9238-720A2FE2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FDA44-BFBF-4357-B0CA-6DD1557E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F5669-22F3-465A-903C-7BD27616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9601E-19D5-4712-A7B3-9078CEBD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18934-87B1-45A6-AF84-6F8D65B1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4BEA3-FF49-4DFC-BAFC-EF1F4A4A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94E87-4E1F-41E9-B88E-C360C402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0A5-0AD1-43E7-B9C7-EBB8FA29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2B018-7905-41ED-B80F-39713C0C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B49F7-4B3C-445F-BF40-E589FC00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A6754-0121-4A06-97AC-64EFE601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3D488-D7EB-42D3-B6F9-5A003D68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BDD51-A850-412D-84EF-0B313BBF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29241-F03E-4197-B91F-ED5847F1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E11C0-A816-4147-BA39-9CA1DA35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5AB17-3F23-4DAB-AD09-E21B18D7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87737-42C3-4F85-8E6B-AA9D4EA5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23717-2735-4016-A5E1-3EA9B0DC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3A1-DF8B-4C17-8711-CCF51511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C4170-215B-4041-94E0-269C70F9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9B235-FB76-4F6A-A510-F84BBA4D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F8EA1-AE58-4B03-B353-E31E65B3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63287-47F4-48F4-8E72-84EB1342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3B45E-B542-4801-A6B0-A1AA3985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7EE1F-1F62-4B5F-B6A4-438669FE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7424A-29B5-4D6B-8EF2-8AED3394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73900-5F5A-4C38-8397-191DC8A7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42AD4-848E-40F4-9D41-9091EE24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7ECBA-B896-45B6-8810-E55B2EE5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FC99-63DF-43F9-A7B1-8AA2E648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A877C-7141-42A2-947D-F63FB99A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0A10-2214-4514-9D38-4F896DF8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F94-E10A-45FA-8C72-F50C6E89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0EDE-96DA-4086-80F6-FC382B8C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13DB-B7BA-4497-9C35-BECB85252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EB16-8A6F-4E5B-9312-005599F374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73FB-393A-4ACE-8ACB-ECE4E96E0A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4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182A-D858-40A5-95B6-5994F8CE08B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0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1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2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9DAE-D031-4391-B32F-E7463A9778D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0" y="0"/>
            <a:ext cx="9144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Times New Roman"/>
                <a:ea typeface="Arial"/>
              </a:rPr>
              <a:t>Pasqua = Passagg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0" y="1125360"/>
            <a:ext cx="914400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uc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ssaggio  dalla notte al gior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179280" y="1125360"/>
            <a:ext cx="896472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cqu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assaggio dallo sporco al puli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4518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292720" y="1125360"/>
            <a:ext cx="29368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ero Pasquale =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Gesù Risor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erza parte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li appuntamenti dell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TTIMANA S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settimana S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4247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onfessioni come gruppo. Decidere qu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Giovedì sera alle 21.00: Messa dell’ultima 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Venerdì sera alle 21.00:Via Cruc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Sabato sera alle 21.00: veglia di Pasq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134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se vuo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 rot="20513400">
            <a:off x="25092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BUONA PASQUA!!!</a:t>
            </a:r>
            <a:endParaRPr b="0" lang="en-US" sz="9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ima parte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a vera originalità della nostra religione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2373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Buddha ?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"/>
          <p:cNvSpPr/>
          <p:nvPr/>
        </p:nvSpPr>
        <p:spPr>
          <a:xfrm>
            <a:off x="3062160" y="981000"/>
            <a:ext cx="5686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è morto nel 477 a.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568680" y="3570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È morto nel 632 d.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55640" y="3573360"/>
            <a:ext cx="3095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ometto ?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5640" y="47628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Sapete quando è mort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826560" y="764640"/>
            <a:ext cx="7417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Di Maomet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o Buddh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abbiam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anche le tom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76364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539640" y="1052640"/>
            <a:ext cx="7417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3000"/>
          </a:bodyPr>
          <a:p>
            <a:pPr marL="44280" indent="-44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Gesù invece è mor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e po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Risor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La sua tomba è VU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GESU’ è </a:t>
            </a:r>
            <a:r>
              <a:rPr b="0" lang="it-IT" sz="7200" spc="-1" strike="noStrike">
                <a:solidFill>
                  <a:srgbClr val="ffffff"/>
                </a:solidFill>
                <a:latin typeface="Comic Sans MS"/>
              </a:rPr>
              <a:t>VIVO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conda parte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 SIMBOLI della PASQU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95280" y="1052640"/>
            <a:ext cx="79945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gnell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4360" y="2781360"/>
            <a:ext cx="79945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Simbolo d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debolezza e dolcezz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035680" cy="5877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116000" y="494172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LOM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400720" y="4941720"/>
            <a:ext cx="374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 P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3425760" cy="441000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10920" y="5013360"/>
            <a:ext cx="70563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OV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ssaggio a nuova v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324000" y="1125360"/>
            <a:ext cx="882000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uoco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ssaggio  dal freddo al cal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6:02:39Z</dcterms:created>
  <dc:creator>Stefo&amp;Stefi</dc:creator>
  <dc:description/>
  <dc:language>en-US</dc:language>
  <cp:lastModifiedBy>PriorSte</cp:lastModifiedBy>
  <dcterms:modified xsi:type="dcterms:W3CDTF">2010-03-26T11:57:23Z</dcterms:modified>
  <cp:revision>10</cp:revision>
  <dc:subject/>
  <dc:title>\</dc:title>
</cp:coreProperties>
</file>