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A8A-7F72-4AA2-8786-F3D78E0C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CCC-762B-4C24-8FB4-7AC09865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FCC-35BA-4E62-AE31-33216AE9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DE2-4716-41F8-B68C-904BEF5B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3F7-B7A4-4971-A6A8-D2992A33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3DE-9D90-4067-A53A-38FABA81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0F1-FAED-4F13-A228-1909C341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303-9677-49DC-980F-0DA209E8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422-7EF7-45F1-A99C-3C969D8D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05D-A4BB-487D-8FDC-E164815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658-F030-43E9-B9FF-293C2D70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09A-2567-40C7-8C9C-677E2833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CE64-6070-47E4-9780-4A7164A9C5C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81080" y="152280"/>
            <a:ext cx="49532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ff0000"/>
                </a:solidFill>
                <a:latin typeface="Britannic Bold"/>
              </a:rPr>
              <a:t> </a:t>
            </a:r>
            <a:r>
              <a:rPr b="0" lang="es-CO" sz="5400" spc="-1" strike="noStrike">
                <a:solidFill>
                  <a:srgbClr val="ff0000"/>
                </a:solidFill>
                <a:latin typeface="Britannic Bold"/>
              </a:rPr>
              <a:t>La Terra in Miniatu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429000" y="761760"/>
            <a:ext cx="541008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Se puoi andare in Chiesa senza paura di essere umiliato, arrestato, torturato o ucciso... allora sei più fortunato di 3 miliardi di persone nel mo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429000" y="685440"/>
            <a:ext cx="5410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Se hai cibo nel frigo, vestiti nell’armadio, un tetto sulla testa e un posto dove dormire, sei più ricco del 75% della popolazione mondia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505320" y="1295280"/>
            <a:ext cx="5410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Se hai dei soldi in banca, nel portafogli e qualche moneta nel salvadanai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Sei tra l’8% dei più ricchi al mon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504960" y="685800"/>
            <a:ext cx="525780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Copperplate Gothic Light"/>
              </a:rPr>
              <a:t>Date e vi sarà dato; una buona misura, pigiata, scossa e traboccante vi sarà versata nel grembo, perché con la misura con cui misurate, sarà misurato a voi in camb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Gesù di Nazare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428640" y="609120"/>
            <a:ext cx="52578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ff"/>
                </a:solidFill>
                <a:latin typeface="Copperplate Gothic Bold"/>
              </a:rPr>
              <a:t>Se potessimo ridurre la popolazione mondiale ad un piccolo villaggio di 100 abitanti, mantenendo le proporzioni atualmente esistenti, verrebbe qualcosa del gene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28640" y="1523520"/>
            <a:ext cx="52578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Ci sarebber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pperplate Gothic Bold"/>
              </a:rPr>
              <a:t>57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asiatic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pperplate Gothic Bold"/>
              </a:rPr>
              <a:t>21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europ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pperplate Gothic Bold"/>
              </a:rPr>
              <a:t>4 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persone dalle Americhe( tra nord e su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ff"/>
                </a:solidFill>
                <a:latin typeface="Copperplate Gothic Bold"/>
              </a:rPr>
              <a:t>e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Copperplate Gothic Bold"/>
              </a:rPr>
              <a:t>8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africa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505320" y="685800"/>
            <a:ext cx="53337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52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sarebbero don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48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uom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Copperplate Gothic Bold"/>
              </a:rPr>
              <a:t>70 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non sarebbero bian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Copperplate Gothic Bold"/>
              </a:rPr>
              <a:t>30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sarebbero bian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Copperplate Gothic Bold"/>
              </a:rPr>
              <a:t>70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non cristi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Copperplate Gothic Bold"/>
              </a:rPr>
              <a:t>30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cristi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9000" y="304560"/>
            <a:ext cx="54100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6 persone deterrebero il </a:t>
            </a: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59% 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della ricchezza di tutto il villagg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Questi 6  sarebbero nord america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Delle 100 person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80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vivrebbero in condizioni subumane</a:t>
            </a:r>
            <a:r>
              <a:rPr b="0" lang="es-CO" sz="3200" spc="-1" strike="noStrike">
                <a:solidFill>
                  <a:srgbClr val="0000ff"/>
                </a:solidFill>
                <a:latin typeface="Copperplate Gothic Bold"/>
              </a:rPr>
              <a:t>.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76720" y="685800"/>
            <a:ext cx="5486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70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non saprebbero legg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50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sofrirebbero di denutri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persona sarebbe in punto di m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bambino starebbe per nasc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Solo </a:t>
            </a: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(si, </a:t>
            </a:r>
            <a:r>
              <a:rPr b="0" lang="es-ES" sz="3200" spc="-1" strike="noStrike">
                <a:solidFill>
                  <a:srgbClr val="ff0000"/>
                </a:solidFill>
                <a:latin typeface="Copperplate Gothic Bold"/>
              </a:rPr>
              <a:t>solo 1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) avrebbe un’ istruzione universita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00400" y="1599840"/>
            <a:ext cx="55627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pperplate Gothic Bold"/>
              </a:rPr>
              <a:t>In questo villaggio ci sarebbe solo 1 persona in possesso di un P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pperplate Gothic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28600" y="152388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29000" y="1294920"/>
            <a:ext cx="54100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r>
              <a:rPr b="0" lang="es-CO" sz="3200" spc="-1" strike="noStrike">
                <a:solidFill>
                  <a:srgbClr val="0000ff"/>
                </a:solidFill>
                <a:latin typeface="Copperplate Gothic Bold"/>
              </a:rPr>
              <a:t>Ora rifletti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pperplate Gothic Bold"/>
              </a:rPr>
              <a:t>Se ti sei alzato questa mattina con più salute che malattie, allora tu hai più fortuna dei milioni di persone che non sopravvivranno questa settim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505320" y="838080"/>
            <a:ext cx="533376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Se non hai mai vissuto i pericoli della guerra, la solitudine di essere carcerato, l’agonia di essere torturato o l’afflizione della fame,stai meglio di 500 milioni di esseri uma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iorSte</cp:lastModifiedBy>
  <dcterms:modified xsi:type="dcterms:W3CDTF">2009-11-23T07:16:56Z</dcterms:modified>
  <cp:revision>16</cp:revision>
  <dc:subject/>
  <dc:title>PowerPoint Presentation</dc:title>
</cp:coreProperties>
</file>