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52A-6512-454F-BAA7-E3343657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6BA-04DA-43E4-8302-A6304550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A0D-A62F-448A-BBE6-5AE537D6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989-FCC2-4C0B-8EDD-F7A92FA8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668-EF54-4D17-A3B9-D946E845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57E-3639-45BF-A3EF-1CB9DE51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863-0CDB-415C-B394-3D2220D6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28E-1712-4ACA-93E2-4EE9766B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69E-C7DF-4446-8E60-16E0D51F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CD1-B8D8-41DB-8CE9-43FBECE6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B3F-0701-42D6-AA5C-6DADC1B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25F-C910-4EDC-91E6-9518BD4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ACA6-7A08-42C6-ADC8-07FFE0A5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19755000">
            <a:off x="68544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he non c'è musica che vale di più di quella musica che vuoi sentire tu</a:t>
            </a:r>
            <a:r>
              <a:rPr b="0" lang="it-IT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i stanc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160200"/>
            <a:ext cx="9829800" cy="7018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ono passate 1000 generazioni dai rockabilli punk e capelloni i metallari i paninari e sorcini e ogni volta gli stessi casin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60200"/>
            <a:ext cx="9829800" cy="7018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erché i ragazzi non si fanno vedere sono sfuggenti come le pantere e quando li cattura una definizione il mondo è pronto a una nuova generazio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’ annoi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 rot="21589800">
            <a:off x="151920" y="159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1440" y="3641760"/>
            <a:ext cx="7503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PREZIOS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onosco un modo per rimanere a galla non abboccare a questa grande balla del tempo che ti fa cambiare che ti modell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più vai avanti più la vita è meno bella sfuggi dal gruppo e pensa con la tua test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stare insieme sarà sempre una festa se riuscirai a sopravvivere lontano dal branco non c'è noia non sarai mai stanc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fuggi dal gruppo e non lasciarti fregare e non m'annoio io continuo a ball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Tempo,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comunque vadano le cose lui passa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i romp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 quando stai bene lui va via come un lamp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ti annoi un attimo sembra eterno il paradiso può diventare infern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tempo, ti frego con il ritmo ti cattura e ti chiudo in una ritmica di aspetto molto dur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ti organizzo in battute in quattro quarti all'ora non avrai tempo di liberar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n le gambe muovo anche il cervello e allora il tempo sarà mio fratell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me lui mi darà sempre una mano mi darà tempo per andare lontan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come Ulisse cercherò di ritrovare quella mia isola ma tanto viaggi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arà piacevole sarà indispensabile anche se l'isola sarà irraggiungibil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m’annoi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e se ne frega se qualcuno è in ritardo puoi chiamarlo bastardo ma tanto è già anda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</a:t>
            </a:r>
            <a:br>
              <a:rPr sz="9600"/>
            </a:b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mi stanc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2742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E non mi romp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755000">
            <a:off x="68544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Pausa</a:t>
            </a:r>
            <a:br>
              <a:rPr sz="17000"/>
            </a:br>
            <a:r>
              <a:rPr b="0" lang="it-IT" sz="17000" spc="-1" strike="noStrike">
                <a:solidFill>
                  <a:srgbClr val="000000"/>
                </a:solidFill>
                <a:latin typeface="Comic Sans MS"/>
              </a:rPr>
              <a:t>||</a:t>
            </a:r>
            <a:endParaRPr b="0" lang="en-US" sz="1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28600" y="-620640"/>
            <a:ext cx="9372600" cy="74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80880" y="-101520"/>
            <a:ext cx="10439280" cy="6959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200" spc="-1" strike="noStrike">
                <a:solidFill>
                  <a:srgbClr val="000000"/>
                </a:solidFill>
                <a:latin typeface="Comic Sans MS"/>
              </a:rPr>
              <a:t>86400….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7924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1 giorno = </a:t>
            </a:r>
            <a:br>
              <a:rPr sz="7200"/>
            </a:b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86400 second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 fino adesso niente lo ha mai fermato e tutt'al più forse lo hai misurato con i tuoi orologi di ogni marca e modell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914400" y="-723960"/>
            <a:ext cx="10972800" cy="83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066680" y="-254160"/>
            <a:ext cx="1082016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IERI = STORI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OMANI =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MIST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Vivi bene il tempo</a:t>
            </a: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che ti è stato regalato 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OGG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10210680" cy="7924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1 giorno = </a:t>
            </a:r>
            <a:br>
              <a:rPr sz="7200"/>
            </a:br>
            <a:r>
              <a:rPr b="0" lang="it-IT" sz="7200" spc="-1" strike="noStrike">
                <a:solidFill>
                  <a:srgbClr val="cc0000"/>
                </a:solidFill>
                <a:latin typeface="Comic Sans MS"/>
              </a:rPr>
              <a:t>86400 secondi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ma tanto il tempo resta sempre lui quello l'unica cosa che ci è data di fare è avere il tempo da poter organizza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3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si da organizzare da dividere in passi cassa rullante la mia voce ed i bassi bassi medi e alti per fare salti per far ballare il pubblico sugli spal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 rot="19755000">
            <a:off x="609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E non </a:t>
            </a:r>
            <a:br>
              <a:rPr sz="12000"/>
            </a:br>
            <a:r>
              <a:rPr b="0" lang="it-IT" sz="12000" spc="-1" strike="noStrike">
                <a:solidFill>
                  <a:srgbClr val="000000"/>
                </a:solidFill>
                <a:latin typeface="Comic Sans MS"/>
              </a:rPr>
              <a:t>m’ annoio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tempo 109 battute al minuto quando finisce forse ti sarà piaciuto </a:t>
            </a:r>
            <a:br>
              <a:rPr sz="4400"/>
            </a:br>
            <a:br>
              <a:rPr sz="4400"/>
            </a:br>
            <a:r>
              <a:rPr b="0" lang="it-IT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la chiave per capire questo genere di suono che a molte orecchie può sembrare frastuono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685800" y="-325440"/>
            <a:ext cx="10591920" cy="756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è liberare la tua parte migliore chiudere gli occhi aprire bene il cuor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28:17Z</dcterms:created>
  <dc:creator>Stefano</dc:creator>
  <dc:description/>
  <dc:language>en-US</dc:language>
  <cp:lastModifiedBy>Steo&amp;Stefi</cp:lastModifiedBy>
  <dcterms:modified xsi:type="dcterms:W3CDTF">2010-06-12T09:11:11Z</dcterms:modified>
  <cp:revision>8</cp:revision>
  <dc:subject/>
  <dc:title>PowerPoint Presentation</dc:title>
</cp:coreProperties>
</file>