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0BF-F45F-4BCC-8FAE-9841D98D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CA0-C843-44B8-B6D5-0E60627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D1F-95C3-4D76-B935-75AB1C1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B7E-521E-45E5-AC0F-5BB84A24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54-A979-468E-8101-EEC8BA0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527-27CB-46E9-BFB5-D528855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BB6-0C56-4EB9-9150-03E7E31A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D62-F00B-410B-A595-3F8FABF7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593-33B7-4CB4-A211-C89A6D5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23A-A95C-4391-9DAC-57A21A4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13D-D8BF-4A5C-8115-1F2EA99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FC7-D8CC-49D7-B801-288993D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98C-F35A-4080-B4C0-FC340BFA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133720"/>
            <a:ext cx="87138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adre mio se possibile allontana da me questo calice di dolore. Quando Gesù dice q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Al Getze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9440" y="4363920"/>
            <a:ext cx="43182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Sulla cr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5300640"/>
            <a:ext cx="431964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C.  Sul monte T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530064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Mentre viene flagella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Anche se tutti si scandalizzeranno, io 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Anche se tutti si scandalizzeranno, io 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Giuda, ment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Tutti gli apost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Anche se tutti si scandalizzeranno, io 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Giuda, ment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Tutti gli apost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Quale è il significato della scritta “IN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Quale è il significato della scritta “IN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422100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INtanto RIso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9440" y="422100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Nostro Re Impo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esù Nazareno Reo di M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530064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D.  Gesù Nazareno Re dei GIud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Quale è il significato della scritta “IN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39337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INtanto RIso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440" y="393372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Nostro Re Impo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esù Nazareno Reo di M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5300640"/>
            <a:ext cx="4175280" cy="9471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D.  Gesù Nazareno Re dei GIud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Chi ha chiesto il corpo di Gesù a Pil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ha chiesto il corpo di Gesù a Pil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Giuseppe d’Arim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L’apostolo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Simone di Ci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ha chiesto il corpo di Gesù a Pil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Giuseppe d’Arim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L’apostolo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Simone di Ci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404640"/>
            <a:ext cx="867564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Le Reg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704960"/>
            <a:ext cx="784836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i sono 12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8040"/>
            <a:ext cx="79200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Ogni 4 risposte corrette, riceverete un premio. Al massimo, quindi  3 p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141720"/>
            <a:ext cx="784836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Ogni domanda ha 4 possibili rispo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Una sola è corr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2133720"/>
            <a:ext cx="8713800" cy="18003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oi presero la sua tunica, che era tessuta d’un pezzo solo da cima a fondo e dissero: &lt;&lt; Non dividiamola! Tiriamo a sorte a chi tocca&gt;&gt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e quando disse queste pa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9280" y="2133720"/>
            <a:ext cx="8713800" cy="18003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oi presero la sua tunica, che era tessuta d’un pezzo solo da cima a fondo e dissero: &lt;&lt; Non dividiamola! Tiriamo a sorte a chi tocca&gt;&gt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e quando disse queste pa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363920"/>
            <a:ext cx="43182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I soldati sotto la cr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440" y="436392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Gli amici di Gesù prima della sepo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I sommi sacerdoti dopo il giud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5300640"/>
            <a:ext cx="43182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I soldati dopo la flagell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2133720"/>
            <a:ext cx="8713800" cy="18003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oi presero la sua tunica, che era tessuta d’un pezzo solo da cima a fondo e dissero: &lt;&lt; Non dividiamola! Tiriamo a sorte a chi tocca&gt;&gt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e quando disse queste pa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363920"/>
            <a:ext cx="4318200" cy="9471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I soldati sotto la cr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9440" y="436392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Gli amici di Gesù prima della sepo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I sommi sacerdoti dopo il giud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5300640"/>
            <a:ext cx="43182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I soldati dopo la flagell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2133720"/>
            <a:ext cx="8713800" cy="13816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Se non vedo il segno dei chiodi nelle sue mani, se non tocco con mano il suo fianco io non crederò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Chi da detto questa fr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2133720"/>
            <a:ext cx="8713800" cy="13816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Se non vedo il segno dei chiodi nelle sue mani, se non tocco con mano il suo fianco io non crederò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Chi da detto questa fr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Sommo Sacer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i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Tomm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9280" y="2133720"/>
            <a:ext cx="8713800" cy="13816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Se non vedo il segno dei chiodi nelle sue mani, se non tocco con mano il suo fianco io non crederò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sney Print"/>
              </a:rPr>
              <a:t>Chi da detto questa fr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Sommo Sacer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Pi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i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Tomm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79280" y="2133720"/>
            <a:ext cx="871380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Maria pensò che fosse il custode del giardino e gli di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Signore se tu l’ hai portato via dimmi dove l’ hai messo e io andrò aprenderlo&gt;&gt; </a:t>
            </a:r>
            <a:r>
              <a:rPr b="0" lang="fr-FR" sz="2400" spc="-1" strike="noStrike">
                <a:solidFill>
                  <a:srgbClr val="ffffff"/>
                </a:solidFill>
                <a:latin typeface="Disney Print"/>
              </a:rPr>
              <a:t>Gesù le disse: 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Maria ! &gt;&gt;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Di che Maria si trat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2133720"/>
            <a:ext cx="871380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Maria pensò che fosse il custode del giardino e gli di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Signore se tu l’ hai portato via dimmi dove l’ hai messo e io andrò aprenderlo&gt;&gt; </a:t>
            </a:r>
            <a:r>
              <a:rPr b="0" lang="fr-FR" sz="2400" spc="-1" strike="noStrike">
                <a:solidFill>
                  <a:srgbClr val="ffffff"/>
                </a:solidFill>
                <a:latin typeface="Disney Print"/>
              </a:rPr>
              <a:t>Gesù le disse: 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Maria ! &gt;&gt;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Di che Maria si trat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Maria Madre di Ge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Maria la profet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407664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Maria madre di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9440" y="4076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Maria Madd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79280" y="2133720"/>
            <a:ext cx="871380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Maria pensò che fosse il custode del giardino e gli di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Signore se tu l’ hai portato via dimmi dove l’ hai messo e io andrò aprenderlo&gt;&gt; </a:t>
            </a:r>
            <a:r>
              <a:rPr b="0" lang="fr-FR" sz="2400" spc="-1" strike="noStrike">
                <a:solidFill>
                  <a:srgbClr val="ffffff"/>
                </a:solidFill>
                <a:latin typeface="Disney Print"/>
              </a:rPr>
              <a:t>Gesù le disse: </a:t>
            </a: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&lt;&lt; Maria ! &gt;&gt;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Disney Print"/>
              </a:rPr>
              <a:t>Di che Maria si trat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407664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Maria madre di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440" y="407664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Maria Madd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Maria Madre di Ge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Maria la profet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Veramente quest’uomo era Figlio di D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1270080" cy="76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27008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1008000" cy="64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1280" y="537372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0200" y="62064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otrete scegliere fra 2 di questi a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349360"/>
            <a:ext cx="6912000" cy="7038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Vengono dichiarate 2 delle 3 risposte errate. (sotto voce al gruppo che chiede l’ai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3500280"/>
            <a:ext cx="6840720" cy="7038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Il don fornisce un suggerimento (sotto voce al gruppo che chiede l’ai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4508640"/>
            <a:ext cx="684072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Telefonata di 30 secondi 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445000"/>
            <a:ext cx="684072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A disposizione avete il Vangelo per 60 sec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Veramente quest’uomo era Figlio di D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Uno dei ladr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centur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S. Tomm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Un sol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Veramente quest’uomo era Figlio di D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Chi dice questa f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Uno dei ladr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centur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S. Tomm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Un sol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osa offrirono a Gesù in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osa offrirono a Gesù in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Vino am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Un po’ d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Spugna imbevuta d’ Ac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Ve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osa offrirono a Gesù in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Vino am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Un po’ d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8000" y="5300640"/>
            <a:ext cx="4174920" cy="9471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Spugna imbevuta d’ Ac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9280" y="530064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Ve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c’era ai piedi della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c’era ai piedi della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3500280"/>
            <a:ext cx="4462560" cy="125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erlin Sans FB"/>
              </a:rPr>
              <a:t>B. Sua madre, la sorella di sua madre, Maria di Clèofa e Maria di Màgdala.</a:t>
            </a: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9440" y="3562200"/>
            <a:ext cx="417528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A.  Maria e tutti gli apost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360" y="5300640"/>
            <a:ext cx="417528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C.  La mamma di Ge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3280" y="5234040"/>
            <a:ext cx="4391280" cy="8254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D.  Sua Madre, Pietro, Giacomo e Giov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c’era ai piedi della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3500280"/>
            <a:ext cx="4462560" cy="12520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erlin Sans FB"/>
              </a:rPr>
              <a:t>B. Sua madre, la sorella di sua madre, Maria di Clèofa e Maria di Màgdala.</a:t>
            </a: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440" y="3562200"/>
            <a:ext cx="417528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A.  Maria e tutti gli apost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60" y="5300640"/>
            <a:ext cx="417528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C.  La mamma di Ge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5234040"/>
            <a:ext cx="4391280" cy="8254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D.  Sua Madre, Pietro, Giacomo e Giov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Quale è il significato di “Eloì, Eloì, lamà sabactani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Quale è il significato di “Eloì, Eloì, lamà sabactani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59280" y="307332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Dio mio, Dio mio, risorgerò il sab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9440" y="306864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Dio mio, Dio mio, perché permetti tutto q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000" y="4667400"/>
            <a:ext cx="4174920" cy="18003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Dio mio, Dio mio perdonali perché non sanno quello che f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59280" y="473544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Dio mio, Dio mio, perché mi hai abbandon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0200" y="1773360"/>
            <a:ext cx="8462880" cy="3166920"/>
          </a:xfrm>
          <a:prstGeom prst="rect">
            <a:avLst/>
          </a:prstGeom>
          <a:solidFill>
            <a:srgbClr val="000000">
              <a:alpha val="54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Disney Print"/>
              </a:rPr>
              <a:t>LA SFID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Disney Print"/>
              </a:rPr>
              <a:t>ABBIA INIZIO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2133720"/>
            <a:ext cx="87138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Disney Print"/>
              </a:rPr>
              <a:t>Quale è il significato di “Eloì, Eloì, lamà sabactani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59280" y="307332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Dio mio, Dio mio, risorgerò il sab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9440" y="306864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Dio mio, Dio mio, perché permetti tutto q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8000" y="4667400"/>
            <a:ext cx="4174920" cy="18003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Dio mio, Dio mio perdonali perché non sanno quello che f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4735440"/>
            <a:ext cx="4175280" cy="13737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Dio mio, Dio mio, perché mi hai abbandon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30200" y="1773360"/>
            <a:ext cx="8462880" cy="1312920"/>
          </a:xfrm>
          <a:prstGeom prst="rect">
            <a:avLst/>
          </a:prstGeom>
          <a:solidFill>
            <a:srgbClr val="000000">
              <a:alpha val="54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Disney Print"/>
              </a:rPr>
              <a:t>FINE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rendete e mangiatene tutti, questo è il mio co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sse questa frase e d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rendete e mangiatene tutti, questo è il mio co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sse questa frase e d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Gesù, ultim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prete a 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esù all’orto Ul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530064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Gesù, dopo miracolo moltiplicazione p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8713800" cy="1169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rendete e mangiatene tutti, questo è il mio co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Chi disse questa frase e d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B.  Gesù, ultim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944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Il prete a 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5300640"/>
            <a:ext cx="417492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C.  Gesù all’orto Ul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5300640"/>
            <a:ext cx="4175280" cy="13737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Gesù, dopo miracolo moltiplicazione p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133720"/>
            <a:ext cx="87138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adre mio se possibile allontana da me questo calice di dolore. Quando Gesù dice q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133720"/>
            <a:ext cx="871380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sney Print"/>
              </a:rPr>
              <a:t>Padre mio se possibile allontana da me questo calice di dolore. Quando Gesù dice q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4363920"/>
            <a:ext cx="417528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B.  Al Getze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9440" y="4363920"/>
            <a:ext cx="431820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A.  Sulla cr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300640"/>
            <a:ext cx="431964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erlin Sans FB"/>
              </a:rPr>
              <a:t>C.  Sul monte T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300640"/>
            <a:ext cx="4175280" cy="9471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.  Mentre viene flagella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67640" y="549360"/>
            <a:ext cx="100800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2000" y="549360"/>
            <a:ext cx="2664000" cy="1366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69228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0:32:44Z</dcterms:created>
  <dc:creator>.</dc:creator>
  <dc:description/>
  <dc:language>en-US</dc:language>
  <cp:lastModifiedBy>Steo&amp;Stefi</cp:lastModifiedBy>
  <dcterms:modified xsi:type="dcterms:W3CDTF">2012-03-24T11:03:44Z</dcterms:modified>
  <cp:revision>37</cp:revision>
  <dc:subject/>
  <dc:title>Diapositiva 1</dc:title>
</cp:coreProperties>
</file>