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469-C5A4-47F7-9320-616AF53D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55-56FE-4B74-BD4A-22815F3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27B-5A58-4350-ABBC-1D47A178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8B3-0C4C-4B8C-B2EF-FEC5E928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C9E-6B71-47E3-B04B-7C3A839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590-3451-40AB-A3FC-5B142958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2EF-374C-42DE-8176-1697E9A2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683-56CF-4698-82F7-20B8600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904-0F7E-4AA6-BB92-F013955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71B-93D3-4913-981F-1291697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BD4-2938-4385-AC37-2B7C72F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77B-09F2-450F-B240-E551649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61C-89A4-4467-831A-2858ABBA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9755000">
            <a:off x="68544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he non c'è musica che vale di più di quella musica che vuoi sentire tu</a:t>
            </a:r>
            <a:r>
              <a:rPr b="0" lang="it-IT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i stanc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60200"/>
            <a:ext cx="9829800" cy="7018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ono passate 1000 generazioni dai rockabilli punk e capelloni i metallari i paninari e sorcini e ogni volta gli stessi casin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60200"/>
            <a:ext cx="9829800" cy="7018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erché i ragazzi non si fanno vedere sono sfuggenti come le pantere e quando li cattura una definizione il mondo è pronto a una nuova generazi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’ annoi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21589800">
            <a:off x="151920" y="159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1440" y="3641760"/>
            <a:ext cx="75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PREZIOS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onosco un modo per rimanere a galla non abboccare a questa grande balla del tempo che ti fa cambiare che ti model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più vai avanti più la vita è meno bella sfuggi dal gruppo e pensa con la tua test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stare insieme sarà sempre una festa se riuscirai a sopravvivere lontano dal branco non c'è noia non sarai mai stanc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fuggi dal gruppo e non lasciarti fregare e non m'annoio io continuo a ball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mpo,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unque vadano le cose lui pass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i romp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quando stai bene lui va via come un lamp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ti annoi un attimo sembra eterno il paradiso può diventare infern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, ti frego con il ritmo ti cattura e ti chiudo in una ritmica di aspetto molto dur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ti organizzo in battute in quattro quarti all'ora non avrai tempo di liberar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n le gambe muovo anche il cervello e allora il tempo sarà mio fratell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me lui mi darà sempre una mano mi darà tempo per andare lontan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me Ulisse cercherò di ritrovare quella mia isola ma tanto viaggi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arà piacevole sarà indispensabile anche se l'isola sarà irraggiungibi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m’annoi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e se ne frega se qualcuno è in ritardo puoi chiamarlo bastardo ma tanto è già anda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</a:t>
            </a:r>
            <a:br>
              <a:rPr sz="9600"/>
            </a:b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mi stanc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mi romp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755000">
            <a:off x="68544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Pausa</a:t>
            </a:r>
            <a:br>
              <a:rPr sz="17000"/>
            </a:b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||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-620640"/>
            <a:ext cx="9372600" cy="74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80880" y="-10152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200" spc="-1" strike="noStrike">
                <a:solidFill>
                  <a:srgbClr val="000000"/>
                </a:solidFill>
                <a:latin typeface="Comic Sans MS"/>
              </a:rPr>
              <a:t>86400….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7924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1 giorno = </a:t>
            </a:r>
            <a:br>
              <a:rPr sz="7200"/>
            </a:b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86400 second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fino adesso niente lo ha mai fermato e tutt'al più forse lo hai misurato con i tuoi orologi di ogni marca e modell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914400" y="-723960"/>
            <a:ext cx="10972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066680" y="-254160"/>
            <a:ext cx="1082016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IERI = ST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OMANI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MIST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Vivi bene il tempo</a:t>
            </a: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che ti è stato regalato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OGG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7924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1 giorno = </a:t>
            </a:r>
            <a:br>
              <a:rPr sz="7200"/>
            </a:b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86400 second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 tanto il tempo resta sempre lui quello l'unica cosa che ci è data di fare è avere il tempo da poter organizz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i da organizzare da dividere in passi cassa rullante la mia voce ed i bassi bassi medi e alti per fare salti per far ballare il pubblico sugli spal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’ annoi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empo 109 battute al minuto quando finisce forse ti sarà piaciuto 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la chiave per capire questo genere di suono che a molte orecchie può sembrare frastuono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è liberare la tua parte migliore chiudere gli occhi aprire bene il cuor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28:17Z</dcterms:created>
  <dc:creator>Stefano</dc:creator>
  <dc:description/>
  <dc:language>en-US</dc:language>
  <cp:lastModifiedBy>Steo&amp;Stefi</cp:lastModifiedBy>
  <dcterms:modified xsi:type="dcterms:W3CDTF">2010-06-12T09:11:11Z</dcterms:modified>
  <cp:revision>8</cp:revision>
  <dc:subject/>
  <dc:title>PowerPoint Presentation</dc:title>
</cp:coreProperties>
</file>