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125-9746-4CCC-A335-E5A5ECB5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F23-EA09-4160-B923-F6B160D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73D-8BCF-4D9C-A82A-592F7BB7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601-DE27-45A1-B3A9-48092AE8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83F-AF2D-4BD6-A05E-98B379DD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EEA-C158-4712-8978-103201F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6D6-B859-4B8D-A7CA-A4E0C7C1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985-5817-45A0-A549-93520FF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347-1F3B-4BCD-9F66-9FBE7021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407-4C01-4BA1-9E52-7FDD75F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BBA-1DD0-4F8E-8CDC-D63DD4FC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E58-FA32-4F18-A389-21A57F3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051F-1527-407A-A288-B0A78CDE2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’origine del mondo….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       ….secondo la scienz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512640"/>
            <a:ext cx="7696080" cy="577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9907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E poi ai fio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267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99"/>
                </a:solidFill>
                <a:latin typeface="Comic Sans MS"/>
              </a:rPr>
              <a:t>e alle pian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39960" y="0"/>
            <a:ext cx="60544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52480" y="14479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Ai Pes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6960" y="1104840"/>
            <a:ext cx="7210080" cy="4648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6720" y="44956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Ai dinosau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Ai mammife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1960" y="204840"/>
            <a:ext cx="8020080" cy="6448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00"/>
                </a:solidFill>
                <a:latin typeface="Comic Sans MS"/>
              </a:rPr>
              <a:t>Uom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-457200"/>
            <a:ext cx="670572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0" spc="-1" strike="noStrike">
                <a:solidFill>
                  <a:srgbClr val="ccff99"/>
                </a:solidFill>
                <a:latin typeface="Times New Roman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2160" y="26665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000000"/>
                </a:solidFill>
                <a:latin typeface="Comic Sans MS"/>
              </a:rPr>
              <a:t>Ma la teoria di Darwin è completamente dimostrata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407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-685800"/>
            <a:ext cx="670536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0" spc="-1" strike="noStrike">
                <a:solidFill>
                  <a:srgbClr val="ccff99"/>
                </a:solidFill>
                <a:latin typeface="Times New Roman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li invertebrati e i pesci presentano enormi differenze strutturali. Una così enorme "evoluzione" avrebbe richiesto miliardi di passi per essere portata a compimento e dovrebbe essere testimoniata da altrettante forme di transizione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42900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li evoluzionisti hanno scavato gli strati fossili per circa 140 anni alla ricerca di queste ipotetiche forme. Nessuno ha mai rinvenuto neppure una testimonianza di tale forma intermedi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0" spc="-1" strike="noStrike">
                <a:solidFill>
                  <a:srgbClr val="ffff00"/>
                </a:solidFill>
                <a:latin typeface="Comic Sans MS"/>
              </a:rPr>
              <a:t>?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4038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’anello manc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62320" y="-762120"/>
            <a:ext cx="670536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0" spc="-1" strike="noStrike">
                <a:solidFill>
                  <a:srgbClr val="ccff99"/>
                </a:solidFill>
                <a:latin typeface="Times New Roman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Alcuni dei fossili che gli evoluzionisti ritengono i progenitori dell'uomo, appartengono a razze umane vissute all'incirca 10.000 anni fa, poi scompa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68604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Inoltre, molte comunità umane ancora oggi viventi hanno le stesse fattezze e caratteristiche di queste razze umane estinte, che gli evoluzionisti ritengono i nostri antena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5120" y="-1085760"/>
            <a:ext cx="12497040" cy="9372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Comic Sans MS"/>
              </a:rPr>
              <a:t>L’origine dell’universo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2004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lti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onomi</a:t>
            </a: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tengono</a:t>
            </a: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che l'universo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bia avuto</a:t>
            </a: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inizio con il cosiddetto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ig Bang</a:t>
            </a: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circa 14 miliardi di anni f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457560"/>
            <a:ext cx="6477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4282920" cy="3170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4419720"/>
            <a:ext cx="8458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000000"/>
                </a:solidFill>
                <a:latin typeface="Comic Sans MS"/>
                <a:ea typeface="Arial"/>
              </a:rPr>
              <a:t>Tutto ciò rappresenta un </a:t>
            </a:r>
            <a:r>
              <a:rPr b="0" lang="it-IT" sz="4500" spc="-1" strike="noStrike">
                <a:solidFill>
                  <a:srgbClr val="800000"/>
                </a:solidFill>
                <a:latin typeface="Comic Sans MS"/>
                <a:ea typeface="Arial"/>
              </a:rPr>
              <a:t>“anello mancante”,</a:t>
            </a:r>
            <a:r>
              <a:rPr b="0" lang="it-IT" sz="4500" spc="-1" strike="noStrike">
                <a:solidFill>
                  <a:srgbClr val="000000"/>
                </a:solidFill>
                <a:latin typeface="Comic Sans MS"/>
                <a:ea typeface="Arial"/>
              </a:rPr>
              <a:t> un dubbio che insidia la teoria di Darwin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00"/>
                </a:solidFill>
                <a:latin typeface="Comic Sans MS"/>
              </a:rPr>
              <a:t>L’origine dell’universo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858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Allora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'intero universo</a:t>
            </a:r>
            <a:r>
              <a:rPr b="0" lang="it-IT" sz="4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era compreso in una 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lla migliaia di volte</a:t>
            </a:r>
            <a:r>
              <a:rPr b="0" lang="it-IT" sz="4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più piccola </a:t>
            </a:r>
            <a:r>
              <a:rPr b="0" lang="it-IT" sz="4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di una capocchi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spillo</a:t>
            </a:r>
            <a:r>
              <a:rPr b="0" lang="it-IT" sz="4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, ma più calda </a:t>
            </a:r>
            <a:r>
              <a:rPr b="0" lang="it-IT" sz="4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e più densa</a:t>
            </a:r>
            <a:r>
              <a:rPr b="0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qualsiasi</a:t>
            </a:r>
            <a:r>
              <a:rPr b="0" lang="it-IT" sz="4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cosa possiamo </a:t>
            </a:r>
            <a:r>
              <a:rPr b="0" lang="it-IT" sz="4000" spc="-1" strike="noStrike">
                <a:solidFill>
                  <a:srgbClr val="ff9933"/>
                </a:solidFill>
                <a:latin typeface="Comic Sans MS"/>
                <a:ea typeface="Times New Roman"/>
              </a:rPr>
              <a:t>immaginar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5840" y="-133200"/>
            <a:ext cx="9715680" cy="7124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br>
              <a:rPr sz="4000"/>
            </a:b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oi, improvvisamente, questa bolla esplose e nacque l'universo. 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 una frazione di secondo, l'universo crebbe, da dimensioni inferiori a quelle di un singolo atomo,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560" y="4952880"/>
            <a:ext cx="8614440" cy="1312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'espansione continua ancora oggi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5088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00"/>
                </a:solidFill>
                <a:latin typeface="Comic Sans MS"/>
              </a:rPr>
              <a:t>Ipotesi sull’acqua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 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712960"/>
            <a:ext cx="8076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Potrebbe derivare da un enorme meteorite </a:t>
            </a:r>
            <a:r>
              <a:rPr b="0" lang="it-IT" sz="4400" spc="-1" strike="noStrike">
                <a:solidFill>
                  <a:srgbClr val="ff9900"/>
                </a:solidFill>
                <a:latin typeface="Comic Sans MS"/>
              </a:rPr>
              <a:t>di ghiaccio </a:t>
            </a: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he colpì</a:t>
            </a:r>
            <a:r>
              <a:rPr b="0" lang="it-IT" sz="4400" spc="-1" strike="noStrike">
                <a:solidFill>
                  <a:srgbClr val="ff9900"/>
                </a:solidFill>
                <a:latin typeface="Comic Sans MS"/>
              </a:rPr>
              <a:t> la terra molti milioni di annia f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00"/>
                </a:solidFill>
                <a:latin typeface="Comic Sans MS"/>
              </a:rPr>
              <a:t>Evoluzi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406680" cy="4495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91120" y="327672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Charles Darw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(1809 – 18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Comic Sans MS"/>
              </a:rPr>
              <a:t>Fu l’ideatore di una teoria sull’evolu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146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800" spc="-1" strike="noStrike">
                <a:solidFill>
                  <a:srgbClr val="ffff00"/>
                </a:solidFill>
                <a:latin typeface="Comic Sans MS"/>
              </a:rPr>
              <a:t>Evoluzi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716040"/>
            <a:ext cx="7772400" cy="614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Comic Sans MS"/>
              </a:rPr>
              <a:t>Secondo la teoria di Darwin, dai batter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60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9900"/>
                </a:solidFill>
                <a:latin typeface="Comic Sans MS"/>
              </a:rPr>
              <a:t>Si passò a organismi più complessi, come le med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08:33:49Z</dcterms:created>
  <dc:creator>Stefano</dc:creator>
  <dc:description/>
  <dc:language>en-US</dc:language>
  <cp:lastModifiedBy>.</cp:lastModifiedBy>
  <dcterms:modified xsi:type="dcterms:W3CDTF">2006-12-05T20:09:35Z</dcterms:modified>
  <cp:revision>11</cp:revision>
  <dc:subject/>
  <dc:title>L’origine del mondo….         ….secondo la scienza </dc:title>
</cp:coreProperties>
</file>